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C21-A195-485B-B277-561467AE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50C-5B63-4BF3-99E7-A3FCC5A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46D-3167-404C-A97B-49F7BF4A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CDEE-126A-4A58-82C1-FB88908B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8EE-1EBB-425D-BD87-2B28DDD6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C14-3FE6-4E10-81FD-717207CF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2D0-9A8E-4FAB-A701-6E4F2ADF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832-5D9E-4B41-BFC0-9D0547D8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97DB-8F11-480C-AEED-953FA49F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68D-DDD9-4A1B-B753-12918EB1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2A8-B6DF-4629-BA37-612F20E3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FCA-AB58-4AB6-B033-5CEA5F9E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6D37-68D6-4640-9A50-B01B37C0F7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ictures on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2007 Aw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“on the fly” sh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3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00160" y="1833480"/>
            <a:ext cx="51436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“Human landscap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7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Wild life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9.3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et do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3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pet c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2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8840" y="1068480"/>
            <a:ext cx="62863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natural scenary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open sp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8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treet painting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8.9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dy painting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00160" y="1668600"/>
            <a:ext cx="5143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X-Treme sport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0.9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85960" y="851040"/>
            <a:ext cx="737208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transportation” aw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Men’s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5960" y="976320"/>
            <a:ext cx="7372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85960" y="662040"/>
            <a:ext cx="737208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Women’s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pecial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2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00480" y="571680"/>
            <a:ext cx="4343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nor m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03600" y="571680"/>
            <a:ext cx="373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d, finally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global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240" y="38095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92.6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007 awards -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s voted by users of</a:t>
            </a:r>
            <a:br>
              <a:rPr sz="3200"/>
            </a:br>
            <a:br>
              <a:rPr sz="1600"/>
            </a:br>
            <a:r>
              <a:rPr b="0" lang="es-ES" sz="3200" spc="-1" strike="noStrike" u="sng">
                <a:solidFill>
                  <a:srgbClr val="0000ff"/>
                </a:solidFill>
                <a:uFillTx/>
                <a:latin typeface="Times New Roman"/>
              </a:rPr>
              <a:t>www.whatatop.com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natural scenary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closed spa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90.7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85960" y="668160"/>
            <a:ext cx="7372080" cy="55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urban landsc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7.8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5960" y="628560"/>
            <a:ext cx="73720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est f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240" y="373392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ated 86.2 (out of 1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51080" y="571680"/>
            <a:ext cx="4640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3T15:46:46Z</dcterms:created>
  <dc:creator>César Sánchez Ruiz</dc:creator>
  <dc:description/>
  <dc:language>en-US</dc:language>
  <cp:lastModifiedBy>ub</cp:lastModifiedBy>
  <dcterms:modified xsi:type="dcterms:W3CDTF">2007-12-24T15:26:22Z</dcterms:modified>
  <cp:revision>33</cp:revision>
  <dc:subject/>
  <dc:title>Las mejores imágenes de internet</dc:title>
</cp:coreProperties>
</file>